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089-D9F0-4ECD-91A8-09C2BB95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9D0-5C7D-4DF8-93B2-9339308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A5E-A56B-4885-BF49-8D7FE2D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E46-48EE-4DC1-B0A3-6E5CC2B6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361-0782-4D4F-9C7D-C6EB8C5F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20D-8E24-4338-B9F0-1B563E81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7A1-8631-40E0-9063-04904C5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AC0-40B5-44FD-B62D-EF45D8E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488-DD8A-49A2-BF9C-3D34D747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275-7582-4E29-859D-1F28EEA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3C8-139B-4273-B42A-901DF1F0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2FA-90A8-45FC-809C-1DF7D2B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C961-EBDD-4578-8430-1D27B6ABF2B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chedule for negotiation set to 23rd of M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HW-pool will be established to transfer equipment in a sufficient way and reduce cost of wasting and new invest; Team assistance are working on this with the basis of the asset li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ist of named engineers that is part of the contract was reworked aligned with Motorola in accordance to the need of BenQ 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s are accounted as inventory of BenQ Denmark APS, transfer of equipment is proposed on basis of the book value and has to be handled as inv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W-contracts intended to be transferred are CST Microwave Studio, PTC Intercomm Browser, Orcad Unison EE/PCB, Synopsys, R&amp;S maintenance contracts. Decision of Motorola depends on cost situa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verbal done. Contract is under preparation. Moving could be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nearly finished; moving is planed for 25th to 28th of M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is ongoing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on several projects already d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moval of BenQ asset out of the building transferred to Motorola started. Lars Bonde is responsible as project manger for this issu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21T10:21:53Z</dcterms:modified>
  <cp:revision>54</cp:revision>
  <dc:subject/>
  <dc:title>PowerPoint 簡報</dc:title>
</cp:coreProperties>
</file>